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9CDA-B330-4B33-BC86-53CE808BCF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E137-5986-4D49-AF65-6CB709C3906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266-0C9D-4335-9AB9-31C6CF5C06B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86F-D9F8-4E37-882C-377DD95836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161-4E6C-470E-AFB1-FE8654CE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DF5-06A5-4D8B-A15F-41C711A5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5B4-7B27-4F92-9D91-A0B896AC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E0C-6D69-4CD8-8854-D21ED969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C99-6AF6-44F5-8B99-FFE807B3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AEA-FCDF-41E5-8EBE-21133FC0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5DD-F3E6-49EC-8374-2F431EF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1C5-484B-40A7-8DDF-FAE13DA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9E0-AE1A-42BD-8562-F82E57F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01F-7B32-40AB-BF48-D8F24F7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0C0-2479-44DE-85BB-552EF60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A58-C3C0-49FC-B8E6-A9AF98E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7730-8D4B-4507-A92F-3E475B8C2FB2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뉴턴과 과학혁명의 완성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539640" y="404640"/>
          <a:ext cx="810108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8101080" cy="6093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뉴턴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자연철학의 수학적 원리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334-340, 350-352, 386-387, 407-415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쪽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질량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물질의 양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무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중력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구심력은 어떤 관계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뉴턴은 천상계와 지상계의 구분을 어떻게 없앴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명제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명제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11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의 역사적 의의는 무엇일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뉴턴이 데카르트로부터 빚진 요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책 참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와 연금술로부터 빚진 요소를 생각해보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다큐멘터리 참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.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뉴턴이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일반 주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를 쓴 이유는 무엇일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이 데카르트의 소용돌이 가설을 거부한 근거는 무엇인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은 신의 설계와 지배를 어떻게 논증하는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의 신은 데카르트의 신과 어떻게 다른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이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나는 가설을 세우지 않는다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 말한 이유는 무엇일까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0:27:54Z</dcterms:created>
  <dc:creator>zolaist</dc:creator>
  <dc:description/>
  <dc:language>en-US</dc:language>
  <cp:lastModifiedBy>zolaist</cp:lastModifiedBy>
  <dcterms:modified xsi:type="dcterms:W3CDTF">2011-04-28T12:00:01Z</dcterms:modified>
  <cp:revision>12</cp:revision>
  <dc:subject/>
  <dc:title>뉴턴과 과학혁명의 완성</dc:title>
</cp:coreProperties>
</file>